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EC5A-FF71-4BCF-9100-B75166922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A582-EF59-4E67-9701-FEF5F852D47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7C01-22B6-462B-9A2B-6EFC5E0626D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4F79-2B3B-4223-8143-EC7C627DFCA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998C-8DB0-4D0D-8B48-4D03D1C7F48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8878-1EC2-4FBF-B971-5741C13668B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262F-34AF-4A9A-9A5E-C5B7A1D12E3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9CF4-3350-4EC8-A9A6-F61C36BF637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3C24-13F3-4E74-8F6F-540003A93EB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6FB5-B411-4B30-9C10-D6FACE84230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73E2-DE30-4763-A792-055E55D76B3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5F1A-F10D-48B6-89C2-19842805145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FA71-30CB-463A-8795-25AC5BC57E0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F547-C4C2-4B2D-BA47-027417942F3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D2C5-4E3C-4D18-98AB-1E357AF08E9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6668-8D8C-4ADF-A6B9-5369BA77400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C096-2E48-4E58-9B2F-030D72515B9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D4DF-9700-4222-BDD2-2D58D1470E2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EB68-CA9B-41FF-9533-40BB64ACD77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0B5A-8B8E-4B4F-B347-92F9399FFE4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5897-CE06-45B4-959C-F850D6806D6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6565-952B-43F1-8CDA-DDBF06D7699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88A8-AD50-470D-816E-0595B9C299F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8477-6832-4445-9C9F-799346F0C69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90F6-9684-4A8E-A742-A98F619E8DB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537-DD72-4024-B99F-38B53BFB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52B-BDE3-48EA-B27C-A99DD393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CAB-72FE-4F82-B5B9-28D133C2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933-0A91-4331-B4A2-34F956D3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BF02-E93B-4073-8A60-8B4ACFBF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3E04-02C7-4930-AF97-BEF39F34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C3B9-7AA9-4525-B182-393D05D9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6134-7DA5-477C-A375-57FCEB93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514D-A840-44EF-8151-8F0B36D2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7086-55E6-4D27-A390-6AD8BA4D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24BF-5960-4F58-AE00-857AABB0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74A-FCEA-4DF3-9DDF-5F8FBF0A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92F9-A594-4C36-8388-F2B3E3FF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E8F0-B377-4A8F-B898-79F76C91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DBCA-8859-4B6C-A0DA-06C5963C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0012-BC47-4224-9FF3-C1811A3A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970C-9952-46FD-8A4F-FE3534C3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69256-8544-41B1-8BAC-475EEDF3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DBB8-E69C-4569-B9D5-BE618688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7CB26-B586-49DE-A7CF-356149BF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7D141-8FDC-4EEA-9D23-8E129F74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9EE3-05CC-400D-8EB2-EF255224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D5D-ECBE-4720-A5D9-492D4857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B3DF-8AAE-439F-9120-143D8ECE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BDC06-EA6B-4472-B6E8-D5F0220F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C4A20-0513-442A-A42D-4847AB6D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1C44A-CA3B-4D5C-A83C-A4308A88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8A2E-EBCD-4A4C-A23A-763FF8CC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2616A-84A2-4E23-A8F4-2F264346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DD0A-852F-4BDD-B3C1-8CA66D2E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8CD49-047E-4574-8645-A2EA229E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F5E41-925B-4BB5-BB4F-A865AA4F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5E807-41DB-4C2B-A8B3-CC5D33D4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2AD-479E-4ACB-A30E-1F80895C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B6D24-1154-49C0-A2B6-AD31074C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FEC05-83F7-4E5B-BAB2-C7F4BC7D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9CCA3-D4FE-43F7-B473-19B6A8F2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FFFB7-EEE4-4F1C-A7A8-0BAAF6FD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87C31-23BF-487B-8BA5-FC74D4C3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0A964-7916-4F13-B2D3-419AB1BC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20724-C8E2-4976-A3F8-009B01A3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D4C95-0256-4CB9-8A9E-7778F2CC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8649B-2625-4F5E-8C09-68E580C7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C38-B7B4-4040-97C1-4D4FD384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C7D-7E4F-4525-A265-29F4CC4E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85D-ED25-4223-BEE7-4C4AE3B3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A2C-3BA8-47DF-8E18-17CB24E4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0FF-7FBF-44FC-AB3F-D21AE8F6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1E4F-6604-4E40-9D07-0A6682DAF90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2C87-8927-4AF7-BBCC-A348A351745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9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1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2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4829-B87E-40EE-8D00-6F3E05F0C99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8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0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1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0F46-D281-4AFE-B61F-E9DE4ECF77A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cponline.org/journals/annals/15feb97/melanoma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pansa.gov.au/images/nir/spectrum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hapter 26:  Ozone Depletion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-360" y="1828440"/>
            <a:ext cx="2438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ase Study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pidemic Skin Cancer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9" name="Picture 5" descr="melano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240" y="1981080"/>
            <a:ext cx="6518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Anthropogenic Ozone Destruc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unlight can break and release Cl and then it may rebind again, over and ov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Catalytic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lag effec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FCs are verrrrrrrry stable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re are no tropospheric sink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unlight does not break it here! (transparent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ain doesn’t phase it! (insolubl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xidation can’t touch it! (non-reactiv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ere is ozone being lost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ver the Antarctic (big time!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ver the Arctic, but less s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ver northern hemisphe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ver southern hemisphe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ere is there the most ozone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st is made over the equator due to high intensity sunligh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Yet it is thinnest there and thickest at the po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mmmmmmmmmmm…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y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tarctic Ozone Hol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ccurs during the spring in polar stratospheric cloud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anges from 15 – 80 % loss (over 80% depleted for 8 weeks in 1995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rea of depletion is spreading out (from a million sq. miles in 1970 to 22 million sq. miles today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lar winter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ir looses heat and sink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’s dark 6 months ,so no incoming radiation to add new hea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ir is isolated from global circulation and circulates around po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is is called the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polar vortex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Winter stratospheric clouds are essential for ozone destruc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s temps. slowly drop, sulfuric acid freezes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eds nitric acid to form around frozen particl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alled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Type 1 stratospheric clou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s temp rapidly drops further water condenses around Type 1 particles making them larg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se are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Type 2 stratospheric clou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ow you can see them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ith both cloud types, NO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Verdana"/>
              </a:rPr>
              <a:t>2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s tied up as nitric acid, freezes out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se particles grow large enough to fall out of atm, removing most NO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Verdana"/>
              </a:rPr>
              <a:t>x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rom cloud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o NO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Verdana"/>
              </a:rPr>
              <a:t>x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= no chlorine (chlorine nitrate) sink in springtime!!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tarctic spr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unlight retur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reaks apart CFCs, freeing chlori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o NO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in clouds so no chlorine sin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s free to destroy ozone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2" name="Picture 5" descr="a07"/>
          <p:cNvPicPr/>
          <p:nvPr/>
        </p:nvPicPr>
        <p:blipFill>
          <a:blip r:embed="rId1"/>
          <a:stretch/>
        </p:blipFill>
        <p:spPr>
          <a:xfrm>
            <a:off x="4572000" y="1447920"/>
            <a:ext cx="1752480" cy="358128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7"/>
          <p:cNvSpPr/>
          <p:nvPr/>
        </p:nvSpPr>
        <p:spPr>
          <a:xfrm>
            <a:off x="6248520" y="2514600"/>
            <a:ext cx="2895480" cy="1371600"/>
          </a:xfrm>
          <a:prstGeom prst="wedgeEllipseCallout">
            <a:avLst>
              <a:gd name="adj1" fmla="val -59541"/>
              <a:gd name="adj2" fmla="val -5219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6994440" y="28591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’s spring!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UV Radia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1" name="Picture 6" descr="spectr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8381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  Need super cold isolated air vortex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polar winter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 Need PSCs (ozone destroying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actions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appen on their surfaces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.  NOx freeze and drop ou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.  On the surfaces, inactive Cl and Br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plexes convert into highly active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5.  When sunlight returns in spring ozone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oss is very rapi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Future of Ozone Deple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illions of metric tons of CFCs are in lower atm now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ay take as much as 50 years or so to get to stratosphe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y last 75 - 140 yea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o it will probably get worse before it gets better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Ozone Depletion: Effect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ssible reduction in phytoplankton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ay effect oceanic food chai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ess fish for human consump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ay also increase global warming (phytoplankton are an important CO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sink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lobal warming may affect our food crops negativel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ealth effec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crease in skin canc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amage ey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eaken  immune system which may have a multitude of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anagemen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ntreal Protocol in 198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46 countries have signed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gree to reduce CFC  us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ost industrial ones stopped by 199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eadline for developing countries is 200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hina and India chose not to participat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ubstitut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FC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CFC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opane (cheap but potentially explosive?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85 billion dollar cost to replace old refrigerating equipment that cannot use alternative chemic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Other Ideas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UVC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hortest wavelengt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ost energetic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reaks O2 into O and 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 and O2 combine to form O3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trongly absorbed in stratosphere by ozo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one reaches surface of Eart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4" name="Picture 6" descr="radiation_i1"/>
          <p:cNvPicPr/>
          <p:nvPr/>
        </p:nvPicPr>
        <p:blipFill>
          <a:blip r:embed="rId1"/>
          <a:stretch/>
        </p:blipFill>
        <p:spPr>
          <a:xfrm>
            <a:off x="7086600" y="2286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fig1-01"/>
          <p:cNvPicPr/>
          <p:nvPr/>
        </p:nvPicPr>
        <p:blipFill>
          <a:blip r:embed="rId2"/>
          <a:stretch/>
        </p:blipFill>
        <p:spPr>
          <a:xfrm>
            <a:off x="4495680" y="1447920"/>
            <a:ext cx="44960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UVB and UV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UVB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airly energetic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an cause cell dam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trongly absorbed b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zone lay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UVA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ongest wavelengt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an cause cell damage, penetrates into deeper layers of ski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zone does not absorb i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aches surface of Earth easil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ozoneimg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y is ozone being depleted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zone measured 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obson units ( DU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1 = 1 ppm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irst measured in 1920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4419720" y="1523880"/>
            <a:ext cx="4267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FCs are the main culpr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nder molecule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in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5" name="Picture 5" descr="04b"/>
          <p:cNvPicPr/>
          <p:nvPr/>
        </p:nvPicPr>
        <p:blipFill>
          <a:blip r:embed="rId1"/>
          <a:stretch/>
        </p:blipFill>
        <p:spPr>
          <a:xfrm>
            <a:off x="1600200" y="838080"/>
            <a:ext cx="6553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6"/>
          <p:cNvSpPr/>
          <p:nvPr/>
        </p:nvSpPr>
        <p:spPr>
          <a:xfrm>
            <a:off x="0" y="685800"/>
            <a:ext cx="25146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FC hit by U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hlorine splits o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ruthlessly attacks an innocent oz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emporarily forms chlorine monox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roken up by a free O and the evil chlorine is free to destroy more ozone (up to 100,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04920" y="63244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appens over and over and over again =  a catalytic chain reaction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8" name="Picture 9" descr="invader2"/>
          <p:cNvPicPr/>
          <p:nvPr/>
        </p:nvPicPr>
        <p:blipFill>
          <a:blip r:embed="rId1"/>
          <a:stretch/>
        </p:blipFill>
        <p:spPr>
          <a:xfrm>
            <a:off x="2514600" y="0"/>
            <a:ext cx="6324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Natural Ozone Formation and Destruc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4:29:53Z</dcterms:created>
  <dc:creator>tosborne</dc:creator>
  <dc:description/>
  <dc:language>en-US</dc:language>
  <cp:lastModifiedBy>tosborne</cp:lastModifiedBy>
  <dcterms:modified xsi:type="dcterms:W3CDTF">2012-03-19T23:45:14Z</dcterms:modified>
  <cp:revision>20</cp:revision>
  <dc:subject/>
  <dc:title>Ozone Depletion</dc:title>
</cp:coreProperties>
</file>